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22A6F-2259-442F-8D5E-E70F3AA2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96CD7-167D-4041-AC40-C2A305CB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786AD-8ED1-4DD9-885B-11CE8577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FC86A-13FA-40E2-8E04-EEDC934B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8CFC-621E-446B-9DCC-F07F4299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33E0-9257-4C6C-9262-CC670B07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E827-0BE5-4118-8A60-0865B986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1FDA-9E9C-4681-B048-CBDCB1AE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7E27-1B14-47C2-A0B1-37E96A76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9F06-0A90-4F2A-B64D-B36F5B56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EF1E-DCCB-47BC-A8DA-C9ACCBA9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4C701-E82D-44EA-B32F-5FA815E7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3181-76C8-44AA-A6CA-9896891E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7199-C034-42D0-8907-12E15D41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70FC-52BB-4739-9D2F-ABCA870E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CE68-7E79-4B5A-B1A9-FA2AADEB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C153-C4B6-43F4-9A4F-C9C5E576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CB906-FE39-43C2-9562-8DCF47A1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CCA47-879F-4B2C-B3F3-F4214FC4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B4B8F-B4FF-45DD-95BA-3F7C025B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CC80A-2316-47B6-A6B3-9844E309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E774B-A272-46B8-9CED-2B3E0201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99503-92F8-4E07-BBCF-5C69C0D0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62F71-CB6D-4266-B3F5-4906748D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9530-3977-4494-AAC9-C040AE88CC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AF29-3FF0-4531-BE5C-8A4C23B06A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enefits to Studying a Foreign Languag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dies show that it enhances Critical Thinking Skills and Problem Solving Skil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kills are easily transferred to other academic subjects and improve performance in these other academic subject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re is a correlation between the study of a foreign language and higher SAT scor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ployment Opportunit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ives you better understanding of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English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elps to learn other languag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hances students’ cultural awareness and understand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se it for Tra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t’s FUN!!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4T22:57:00Z</dcterms:created>
  <dc:creator>ERousseau</dc:creator>
  <dc:description/>
  <dc:language>en-US</dc:language>
  <cp:lastModifiedBy>ERousseau</cp:lastModifiedBy>
  <dcterms:modified xsi:type="dcterms:W3CDTF">2014-02-04T23:00:39Z</dcterms:modified>
  <cp:revision>2</cp:revision>
  <dc:subject/>
  <dc:title>Slide 1</dc:title>
</cp:coreProperties>
</file>